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65A2-65BE-4750-B549-B94CB69C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B8EE-52AA-43A9-AFFE-41E20766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7645-6749-4928-8D2D-092BC66C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D479-90D7-48EF-9FC7-D39E6D8A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0D7D-BE2B-4E64-9ED8-25C1293B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B992-C5B3-4E14-82E9-C7A8EB78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144A-A3BC-473A-A306-B6814B00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D745-9263-4BA8-9113-71E0B0F1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CD5C-0952-46AE-A393-5DBE05A9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CD76-84ED-4392-AAAB-A5BDE725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41B3-D2A3-400F-B2F2-4CD748C6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3B90-7EAE-42B2-9F33-2F88653C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0100-EE42-4AF0-B0E7-2D9418C2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1384-DA7A-4AA0-B9D3-BC34AB3F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97B0-5128-4ED7-BB53-F42E906E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68F3-3EBF-4760-9629-FF9201D0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377D-B91C-48E4-B339-654CFF1A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455-A225-4413-829A-795E4431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BC55-F5A3-46E9-A2E6-E4B0CB94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6D1-ED13-4AFE-AAC7-F3C0B590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49D-CD74-4E5E-9161-D4A2A2DD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71D-1590-43F1-8590-91680557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104-CD18-4F2F-8455-B7886D86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21A4-BD63-4354-B455-AF3F5A7D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EADA-3FCC-48D2-8E77-99F4651C2716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A71C-EB74-43CF-B8FF-9DC6000444F4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r. Popper’s Penguin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y Richard and Florence Atwater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320" y="6091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enguins live in Antarctica and the South Pole.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14600" y="25146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A) fac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B) opinio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at does Mrs. Popper  worry about? 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14600" y="22860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A) health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B) childre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C) money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D) groceries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at theater w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r. Popper to take the penguins to perform in?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51460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A) Regal theate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B) Broadway theate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C) Benedum Theate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D) Royal Theater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ather penguins watch over their babies eggs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A) Fact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B)Opinion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enguins are the cutest birds.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A) Fac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B) Opinion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y was Captain Cook interested in the shaving cream on the man’s face?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7920" y="274320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A) looked like ice cream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B) looked soft to touch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C) looked like snow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D) looked like  Santa’s bear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at are the Popper’s children’s nam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A) Janie and Bob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B) Janie and Bil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C) Jill and Jack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D) Jill and Bill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at are some ways Janie and Bill enjoy the penguins?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90920" y="236232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A) watch them spa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B) play fetch with them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C)slide with them on the floo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D) both A and C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If you were Mr. Popper would you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A) make a movie with the penguin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B) take them back to the North Pol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r. Popper’s Penguins was written in: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A) 2011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b) 1999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C) 1983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D) 1938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*How many years ago was that?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7920" y="7617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w did Mr. Popper know so much about the north and south pole?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7920" y="274320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Century Gothic"/>
              </a:rPr>
              <a:t>A)  he visited there when he was you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Century Gothic"/>
              </a:rPr>
              <a:t>B) he read books and saw movies about them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Century Gothic"/>
              </a:rPr>
              <a:t>C) he got on the interne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at was the setting of the story?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A) Waterfor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B)  Stillwate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C) North Pol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D) South Pol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aptain Cook lived in the Popper’s refrigerator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90920" y="236232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A) tru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B) fals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at are some things that Captain Cook puts into the icebox? 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14600" y="236232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A) cards, candy &amp; marbl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B)  dominos, tinfoil, &amp; a ke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C)  crayons, pencils, &amp;         stickers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r. Popper walked his penguin on a leash.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A) tru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B) false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at did Mr. Popper wear to look like a penguin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14600" y="24382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A)  white shirt, white tie &amp; black tailco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B) black &amp; white pajama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C) black pants, white sweater and black scarf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666880" y="609480"/>
            <a:ext cx="6477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at theater w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r. Popper and the Penguins supposed to do their performance? 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90560" y="27432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A) Broadway Theate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B) Royal Theate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C) Regal Theate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D) Baltimore Theater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0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eople find penguins amusing.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A) fac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B) opinion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Why did Captain Cook get ill?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A) he wasn’t with other penguins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B) he wasn’t getting enough sleep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he wasn’t used to Stillwater’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 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weather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8:47:00Z</dcterms:created>
  <dc:creator>West Shore  School District</dc:creator>
  <dc:description/>
  <dc:language>en-US</dc:language>
  <cp:lastModifiedBy>West Shore  School District</cp:lastModifiedBy>
  <dcterms:modified xsi:type="dcterms:W3CDTF">2011-11-10T01:49:59Z</dcterms:modified>
  <cp:revision>16</cp:revision>
  <dc:subject/>
  <dc:title>PowerPoint Presentation</dc:title>
</cp:coreProperties>
</file>